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FDF-1231-4830-AA91-E070A522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DE4C-622D-457E-8B09-68616E09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4EA-C57E-4995-B81E-8365B20E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7B4-3D2A-44A2-9810-5ED94C45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4D5-3C30-4AF3-972C-0B2F35A4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D4A4-0F2D-4DCE-A6AA-D760AD45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AD9-46A3-46F3-8C70-B5D011EC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10C-83A5-4E97-9947-A13DCD1B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0F1-2E3D-4634-9C93-56645F5C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08BA-DCFC-4B91-AF79-79D60ABB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779-F1F8-4814-87C2-60778768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6A9-F101-4AF9-83EB-6AD4F532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980C-E9A9-43D5-B8C3-320240918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2: Integ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add inte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533520"/>
            <a:ext cx="8340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ctive:  Students will add integers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e Sig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the nu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he 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 Sig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tract the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the sign of the number with the larger absolute val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ctive:  Students will add integ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try some together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5 + 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-5 + (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-5 +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5 + (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ctive:  Students will add integ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some on your ow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-4 + (-2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5 + 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-10 + 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9 + 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) –12 + (-1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) -24 +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) 18 + (-1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) -45 + (-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ctive:  Students will add integ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ing it a step furthe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more than 2 integer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from left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-18 + 6 + (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15 + (-4) + (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ctive:  Students will add integ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some on your ow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12 + (-18) + -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-23 + (-16)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11 + (-16) + (-46) + 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85 + (-105) +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+ 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4 + 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1 +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+ 16 + 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:  Workbook pg. 147  11 -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2: None – Work done in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3:50:04Z</dcterms:created>
  <dc:creator>ccps</dc:creator>
  <dc:description/>
  <dc:language>en-US</dc:language>
  <cp:lastModifiedBy>ccps</cp:lastModifiedBy>
  <dcterms:modified xsi:type="dcterms:W3CDTF">2010-04-16T17:40:47Z</dcterms:modified>
  <cp:revision>8</cp:revision>
  <dc:subject/>
  <dc:title>Unit 12: Integers </dc:title>
</cp:coreProperties>
</file>